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D2DA-62A9-4E5D-8FE2-08B4B8129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EAB9-90A7-40FC-9C0B-01642E8E5D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1A2F-A3AD-4A0C-8ED8-F76DB1E4EF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D1CC-17C5-435A-82B0-8E4111CB3B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8750-6583-43DC-95AA-843E8498AD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CA70-900C-404D-A240-BF893916A7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8E94-97EC-4493-9B0B-B760F0534D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083C-7C98-4FF7-929E-B36C882A25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978B-BA3C-449F-8EF6-C7979E1329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CB01-34B1-42BF-A6C6-6FEF5192BC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747D-D995-47D1-B080-93031552D7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3BA1-B374-4ABF-B5C4-1B990EF487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CCEE-9D40-4F28-A04A-86C9FDDB74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6B6E-1BC2-4378-A039-C05A405B2D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048E-8FC0-4151-9697-C690D75E02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79C4-3B17-4CDF-8907-7BAF5A737F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B9E9-3253-41FD-A53E-B8A9D028C5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CF83-562E-44F3-90D4-6E4421D2C1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AF7F-A076-41E7-9630-480C529F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B60B-723B-4078-BE34-5364DDF6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9076-EA13-4F8D-BBB1-463E4099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F8FA-C042-4E27-B276-C9E357FE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6524-2B25-42FA-9F00-443FFB71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3C49-0CF6-45B8-8283-C37105D8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2472-583A-471D-924B-4691B78B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021F-477E-44A9-8074-378F5296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1538-6BDC-4359-A28B-5B75B750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B3ED-33F7-4388-967A-847EE8D9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3DBD-77EA-436E-A659-1C3046C9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4175-907C-48F3-B451-3226FAE1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6D8F-2293-42BB-87DF-D2E4D6F2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61CF-30AE-4353-BB73-2FC1EE12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434E-38F2-4D19-AE76-D752392A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6A5C-2A88-47C2-ABAF-15A7D375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A525-8363-4C06-98D5-871CD5B4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839C2-5FE3-4E39-8674-D5E87898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4B5D2-38FD-420D-A601-415A7A09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E3BDB-7397-43BB-82DC-F01E7D39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189A1-8985-4E34-9407-0E6ED9AB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9E550-D015-43D2-8C94-3DF01312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6334-A3A0-4C38-8BA8-08BCE962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4896B-B205-4407-A8BF-E8D0B3E4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A8FA8-CF7D-476A-9B8B-64AFA8C9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BAD58-98EE-48C5-9A22-A5F82582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416C2-54E6-4C93-8A43-CBFEA445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66B6D-A159-4801-AFF6-76552C17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04F54-3737-405C-8D99-6860FF8B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85A6F-3A34-49D0-818C-68D691A4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598F2-26F3-42ED-9DD6-F22ED12F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ED151-3D04-46D9-9C9A-9243928A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20C09-5451-4AF6-AC09-B73B2E18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4FC0-01CB-49B1-8499-4391DCC6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3A2ED-3D42-4620-8AFA-C95FE6C9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83A64-12A6-40E4-B991-63C83778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D6419-8EE2-40AE-ADF7-5D403C76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2E48A-281E-40DD-9514-A3C749CF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DA345-214D-4E25-A049-A00C7B81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DF941-A53F-4F3F-AEBE-BA88197E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10C2E-21D7-4B7D-A3BC-F39DF265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99103-A4D7-48EB-ABE2-C4117DFA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EE8D6-DB35-4D85-95E0-39FE3B6B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AC45D-F6BD-49B9-B78E-FD552DF4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97AD-1471-432D-8259-5C7B2FF2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5F858-4428-4B0B-B0B6-82DDC534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7C4C9-962B-4E28-95D6-4941442D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4BD63-18D0-47DE-B8C1-273E4F74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E7A1C-20B5-4874-86CF-2DF660A6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899E3-789D-4579-9406-A092D12B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E13DB-E513-4750-AE53-EFF66C24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E5929-223B-4BCD-B727-DE069EE7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C730D-3291-4747-B05D-B4EF7D52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5CA41-0EFB-4C24-B30F-CD01176D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39C6B-A463-4E75-B4AC-6224B754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C8ED-F124-45CF-BDA3-2A9FC16B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4E678-684F-458C-8782-9B78DB1D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57B68-4A25-42E3-A0CE-703BD95C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6B9B7-5269-495C-B241-6AEDBD9E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0E202-1676-4E02-8ECE-10C3E054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B30F9-D5DC-4BE8-85E1-D68A20DE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18CC5-FD48-43B9-B6BF-5B30B64E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89836-EE2F-487F-AD5E-97D119BA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571AA-4154-4DBB-B86A-41A4F634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4BC99-549F-4050-A608-8232DC5C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D8D4A-18CE-45C3-920E-4DFCBE28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EB94-8A1C-44B0-9F22-BF1B394B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4B555-1B98-46D8-B1EE-04CB876D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2E4C2-AC04-44F4-B28E-E5BD79C6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B54E7-38B3-4145-A4B3-8275ADDD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D1C8-D3AF-44F7-A60A-AE0095FE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5EF5-F78D-49EF-BB42-0F16002F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53d"/>
            </a:gs>
            <a:gs pos="100000">
              <a:srgbClr val="d14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11275920" y="2963880"/>
              <a:ext cx="91260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10292400" y="3285360"/>
              <a:ext cx="1896480" cy="18961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10442880" y="3131280"/>
              <a:ext cx="1745640" cy="1745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10918800" y="3683160"/>
              <a:ext cx="1269720" cy="1269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4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5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6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8370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8370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68370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CB07-3E03-4150-A752-9EA93BB3D990}" type="slidenum">
              <a:rPr b="0" lang="en-US" sz="3200" spc="-1" strike="noStrike">
                <a:solidFill>
                  <a:srgbClr val="68370f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53d"/>
            </a:gs>
            <a:gs pos="100000">
              <a:srgbClr val="d14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2"/>
          <p:cNvSpPr/>
          <p:nvPr/>
        </p:nvSpPr>
        <p:spPr>
          <a:xfrm flipH="1">
            <a:off x="8227800" y="7920"/>
            <a:ext cx="3809880" cy="3809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Straight Connector 13"/>
          <p:cNvSpPr/>
          <p:nvPr/>
        </p:nvSpPr>
        <p:spPr>
          <a:xfrm flipH="1">
            <a:off x="6108480" y="92160"/>
            <a:ext cx="6080040" cy="60800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Straight Connector 14"/>
          <p:cNvSpPr/>
          <p:nvPr/>
        </p:nvSpPr>
        <p:spPr>
          <a:xfrm flipH="1">
            <a:off x="7236000" y="228600"/>
            <a:ext cx="4952880" cy="4952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Straight Connector 15"/>
          <p:cNvSpPr/>
          <p:nvPr/>
        </p:nvSpPr>
        <p:spPr>
          <a:xfrm flipH="1">
            <a:off x="7335360" y="31680"/>
            <a:ext cx="4853160" cy="485316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Straight Connector 16"/>
          <p:cNvSpPr/>
          <p:nvPr/>
        </p:nvSpPr>
        <p:spPr>
          <a:xfrm flipH="1">
            <a:off x="7845120" y="609480"/>
            <a:ext cx="4343400" cy="434340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4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5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6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8370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8370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68370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2EEF-C527-417D-A029-520B3CD6F6F9}" type="slidenum">
              <a:rPr b="0" lang="en-US" sz="3200" spc="-1" strike="noStrike">
                <a:solidFill>
                  <a:srgbClr val="68370f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53d"/>
            </a:gs>
            <a:gs pos="100000">
              <a:srgbClr val="d14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94" name="Straight Connector 7"/>
            <p:cNvSpPr/>
            <p:nvPr/>
          </p:nvSpPr>
          <p:spPr>
            <a:xfrm flipH="1">
              <a:off x="11275920" y="2963880"/>
              <a:ext cx="91260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Straight Connector 9"/>
            <p:cNvSpPr/>
            <p:nvPr/>
          </p:nvSpPr>
          <p:spPr>
            <a:xfrm flipH="1">
              <a:off x="10292400" y="3285360"/>
              <a:ext cx="1896480" cy="18961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Straight Connector 10"/>
            <p:cNvSpPr/>
            <p:nvPr/>
          </p:nvSpPr>
          <p:spPr>
            <a:xfrm flipH="1">
              <a:off x="10442880" y="3131280"/>
              <a:ext cx="1745640" cy="1745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Straight Connector 11"/>
            <p:cNvSpPr/>
            <p:nvPr/>
          </p:nvSpPr>
          <p:spPr>
            <a:xfrm flipH="1">
              <a:off x="10918800" y="3683160"/>
              <a:ext cx="1269720" cy="1269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4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5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6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8370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8370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68370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D8B8-DC6B-4DA8-85FE-009416E4A8E2}" type="slidenum">
              <a:rPr b="0" lang="en-US" sz="3200" spc="-1" strike="noStrike">
                <a:solidFill>
                  <a:srgbClr val="68370f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53d"/>
            </a:gs>
            <a:gs pos="100000">
              <a:srgbClr val="d14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43" name="Straight Connector 7"/>
            <p:cNvSpPr/>
            <p:nvPr/>
          </p:nvSpPr>
          <p:spPr>
            <a:xfrm flipH="1">
              <a:off x="11275920" y="2963880"/>
              <a:ext cx="91260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Straight Connector 9"/>
            <p:cNvSpPr/>
            <p:nvPr/>
          </p:nvSpPr>
          <p:spPr>
            <a:xfrm flipH="1">
              <a:off x="10292400" y="3285360"/>
              <a:ext cx="1896480" cy="18961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 flipH="1">
              <a:off x="10442880" y="3131280"/>
              <a:ext cx="1745640" cy="1745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 flipH="1">
              <a:off x="10918800" y="3683160"/>
              <a:ext cx="1269720" cy="1269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4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5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6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8370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8370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68370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B617-9D18-4CDC-B575-59A3265E5EAE}" type="slidenum">
              <a:rPr b="0" lang="en-US" sz="3200" spc="-1" strike="noStrike">
                <a:solidFill>
                  <a:srgbClr val="68370f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53d"/>
            </a:gs>
            <a:gs pos="100000">
              <a:srgbClr val="d14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92" name="Straight Connector 7"/>
            <p:cNvSpPr/>
            <p:nvPr/>
          </p:nvSpPr>
          <p:spPr>
            <a:xfrm flipH="1">
              <a:off x="11275920" y="2963880"/>
              <a:ext cx="91260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Straight Connector 9"/>
            <p:cNvSpPr/>
            <p:nvPr/>
          </p:nvSpPr>
          <p:spPr>
            <a:xfrm flipH="1">
              <a:off x="10292400" y="3285360"/>
              <a:ext cx="1896480" cy="18961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Straight Connector 10"/>
            <p:cNvSpPr/>
            <p:nvPr/>
          </p:nvSpPr>
          <p:spPr>
            <a:xfrm flipH="1">
              <a:off x="10442880" y="3131280"/>
              <a:ext cx="1745640" cy="1745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Straight Connector 11"/>
            <p:cNvSpPr/>
            <p:nvPr/>
          </p:nvSpPr>
          <p:spPr>
            <a:xfrm flipH="1">
              <a:off x="10918800" y="3683160"/>
              <a:ext cx="1269720" cy="1269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4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5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6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9144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68370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2DFE-101E-4FFD-823F-0732A92BEA03}" type="slidenum">
              <a:rPr b="0" lang="en-US" sz="3200" spc="-1" strike="noStrike">
                <a:solidFill>
                  <a:srgbClr val="68370f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53d"/>
            </a:gs>
            <a:gs pos="100000">
              <a:srgbClr val="d14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239" name="Straight Connector 7"/>
            <p:cNvSpPr/>
            <p:nvPr/>
          </p:nvSpPr>
          <p:spPr>
            <a:xfrm flipH="1">
              <a:off x="11275920" y="2963880"/>
              <a:ext cx="91260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Straight Connector 9"/>
            <p:cNvSpPr/>
            <p:nvPr/>
          </p:nvSpPr>
          <p:spPr>
            <a:xfrm flipH="1">
              <a:off x="10292400" y="3285360"/>
              <a:ext cx="1896480" cy="18961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Straight Connector 10"/>
            <p:cNvSpPr/>
            <p:nvPr/>
          </p:nvSpPr>
          <p:spPr>
            <a:xfrm flipH="1">
              <a:off x="10442880" y="3131280"/>
              <a:ext cx="1745640" cy="1745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Straight Connector 11"/>
            <p:cNvSpPr/>
            <p:nvPr/>
          </p:nvSpPr>
          <p:spPr>
            <a:xfrm flipH="1">
              <a:off x="10918800" y="3683160"/>
              <a:ext cx="1269720" cy="1269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4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5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6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9144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68370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60F3-0A25-4F02-84B6-87AB2B7A806C}" type="slidenum">
              <a:rPr b="0" lang="en-US" sz="3200" spc="-1" strike="noStrike">
                <a:solidFill>
                  <a:srgbClr val="68370f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780920" y="2416320"/>
            <a:ext cx="3716280" cy="14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100" spc="-1" strike="noStrike">
                <a:solidFill>
                  <a:srgbClr val="0f496f"/>
                </a:solidFill>
                <a:latin typeface="Century Gothic"/>
              </a:rPr>
              <a:t>With</a:t>
            </a:r>
            <a:endParaRPr b="0" lang="en-US" sz="2100" spc="-1" strike="noStrike">
              <a:solidFill>
                <a:srgbClr val="68370f"/>
              </a:solidFill>
              <a:latin typeface="Century Gothic"/>
            </a:endParaRPr>
          </a:p>
          <a:p>
            <a:pPr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100" spc="-1" strike="noStrike">
                <a:solidFill>
                  <a:srgbClr val="0f496f"/>
                </a:solidFill>
                <a:latin typeface="Century Gothic"/>
              </a:rPr>
              <a:t>Paul Tilley</a:t>
            </a:r>
            <a:endParaRPr b="0" lang="en-US" sz="2100" spc="-1" strike="noStrike">
              <a:solidFill>
                <a:srgbClr val="68370f"/>
              </a:solidFill>
              <a:latin typeface="Century Gothic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8763120" y="914400"/>
            <a:ext cx="1584360" cy="10666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3"/>
          <p:cNvSpPr/>
          <p:nvPr/>
        </p:nvSpPr>
        <p:spPr>
          <a:xfrm>
            <a:off x="1814400" y="4232160"/>
            <a:ext cx="480060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20" rIns="69120" tIns="34560" bIns="3456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f496f"/>
                </a:solidFill>
                <a:latin typeface="Century Gothic"/>
              </a:rPr>
              <a:t>Unit 4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f496f"/>
                </a:solidFill>
                <a:latin typeface="Century Gothic"/>
              </a:rPr>
              <a:t>Secondary Research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1781280" y="650880"/>
            <a:ext cx="57718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840" rIns="51840" tIns="25920" bIns="25920" anchor="ctr">
            <a:normAutofit fontScale="98000"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R2300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ARKETING RESEARC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YBRI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4105800" y="182520"/>
            <a:ext cx="3176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valuating Secondary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4502160" y="768240"/>
            <a:ext cx="2730600" cy="1282680"/>
          </a:xfrm>
          <a:prstGeom prst="rect">
            <a:avLst/>
          </a:prstGeom>
          <a:solidFill>
            <a:srgbClr val="7606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es the data help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questio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 out in 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definitio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4502160" y="2444760"/>
            <a:ext cx="2730600" cy="1282680"/>
          </a:xfrm>
          <a:prstGeom prst="rect">
            <a:avLst/>
          </a:prstGeom>
          <a:solidFill>
            <a:srgbClr val="7606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es the data apply 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time period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es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4578480" y="4197240"/>
            <a:ext cx="2730240" cy="1282680"/>
          </a:xfrm>
          <a:prstGeom prst="rect">
            <a:avLst/>
          </a:prstGeom>
          <a:solidFill>
            <a:srgbClr val="7606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es the data apply 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pulation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es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Line 6"/>
          <p:cNvSpPr/>
          <p:nvPr/>
        </p:nvSpPr>
        <p:spPr>
          <a:xfrm>
            <a:off x="5867280" y="2063880"/>
            <a:ext cx="0" cy="38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Line 7"/>
          <p:cNvSpPr/>
          <p:nvPr/>
        </p:nvSpPr>
        <p:spPr>
          <a:xfrm>
            <a:off x="5867280" y="3816360"/>
            <a:ext cx="0" cy="382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Line 8"/>
          <p:cNvSpPr/>
          <p:nvPr/>
        </p:nvSpPr>
        <p:spPr>
          <a:xfrm>
            <a:off x="5943600" y="5491080"/>
            <a:ext cx="0" cy="45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3505320" y="768240"/>
            <a:ext cx="0" cy="5175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Line 10"/>
          <p:cNvSpPr/>
          <p:nvPr/>
        </p:nvSpPr>
        <p:spPr>
          <a:xfrm>
            <a:off x="3511440" y="762120"/>
            <a:ext cx="679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1963800" y="1881360"/>
            <a:ext cx="15458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pro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4502160" y="920880"/>
            <a:ext cx="2730600" cy="1282680"/>
          </a:xfrm>
          <a:prstGeom prst="rect">
            <a:avLst/>
          </a:prstGeom>
          <a:solidFill>
            <a:srgbClr val="7606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the other term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variab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ificatio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ed appl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4502160" y="2597040"/>
            <a:ext cx="2730600" cy="1282680"/>
          </a:xfrm>
          <a:prstGeom prst="rect">
            <a:avLst/>
          </a:prstGeom>
          <a:solidFill>
            <a:srgbClr val="7606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the units o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m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rab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4502160" y="4273560"/>
            <a:ext cx="2730600" cy="1282680"/>
          </a:xfrm>
          <a:prstGeom prst="rect">
            <a:avLst/>
          </a:prstGeom>
          <a:solidFill>
            <a:srgbClr val="7606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possible, go to 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iginal source of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Line 5"/>
          <p:cNvSpPr/>
          <p:nvPr/>
        </p:nvSpPr>
        <p:spPr>
          <a:xfrm>
            <a:off x="5867280" y="2216160"/>
            <a:ext cx="0" cy="382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6"/>
          <p:cNvSpPr/>
          <p:nvPr/>
        </p:nvSpPr>
        <p:spPr>
          <a:xfrm>
            <a:off x="5943600" y="3892680"/>
            <a:ext cx="0" cy="38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Line 7"/>
          <p:cNvSpPr/>
          <p:nvPr/>
        </p:nvSpPr>
        <p:spPr>
          <a:xfrm>
            <a:off x="5943600" y="5645160"/>
            <a:ext cx="0" cy="382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4048200" y="380880"/>
            <a:ext cx="448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valuating Secondary Data (continue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9"/>
          <p:cNvSpPr/>
          <p:nvPr/>
        </p:nvSpPr>
        <p:spPr>
          <a:xfrm>
            <a:off x="3581280" y="920880"/>
            <a:ext cx="0" cy="3117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10"/>
          <p:cNvSpPr/>
          <p:nvPr/>
        </p:nvSpPr>
        <p:spPr>
          <a:xfrm>
            <a:off x="3587760" y="4267080"/>
            <a:ext cx="52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>
            <a:off x="3581280" y="920880"/>
            <a:ext cx="0" cy="14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Line 12"/>
          <p:cNvSpPr/>
          <p:nvPr/>
        </p:nvSpPr>
        <p:spPr>
          <a:xfrm>
            <a:off x="3581280" y="844560"/>
            <a:ext cx="0" cy="45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2040120" y="1881360"/>
            <a:ext cx="15458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pro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Line 14"/>
          <p:cNvSpPr/>
          <p:nvPr/>
        </p:nvSpPr>
        <p:spPr>
          <a:xfrm>
            <a:off x="3581280" y="4273560"/>
            <a:ext cx="0" cy="159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Line 15"/>
          <p:cNvSpPr/>
          <p:nvPr/>
        </p:nvSpPr>
        <p:spPr>
          <a:xfrm>
            <a:off x="3587760" y="4038480"/>
            <a:ext cx="52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Rectangle 16"/>
          <p:cNvSpPr/>
          <p:nvPr/>
        </p:nvSpPr>
        <p:spPr>
          <a:xfrm>
            <a:off x="2269440" y="4853160"/>
            <a:ext cx="1341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ura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 the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4211640" y="758880"/>
            <a:ext cx="3630600" cy="1282680"/>
          </a:xfrm>
          <a:prstGeom prst="rect">
            <a:avLst/>
          </a:prstGeom>
          <a:solidFill>
            <a:srgbClr val="7606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cost of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quisition worth i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Line 3"/>
          <p:cNvSpPr/>
          <p:nvPr/>
        </p:nvSpPr>
        <p:spPr>
          <a:xfrm>
            <a:off x="6324480" y="2216160"/>
            <a:ext cx="0" cy="382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4191120" y="844560"/>
            <a:ext cx="0" cy="525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2209680" y="2643120"/>
            <a:ext cx="1781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ura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 the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4211640" y="2673360"/>
            <a:ext cx="3630600" cy="1282680"/>
          </a:xfrm>
          <a:prstGeom prst="rect">
            <a:avLst/>
          </a:prstGeom>
          <a:solidFill>
            <a:srgbClr val="7606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re a possibil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bia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4211640" y="4502160"/>
            <a:ext cx="3630600" cy="1282680"/>
          </a:xfrm>
          <a:prstGeom prst="rect">
            <a:avLst/>
          </a:prstGeom>
          <a:solidFill>
            <a:srgbClr val="7606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the accuracy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collection b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ifi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6324480" y="3968640"/>
            <a:ext cx="0" cy="382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Line 9"/>
          <p:cNvSpPr/>
          <p:nvPr/>
        </p:nvSpPr>
        <p:spPr>
          <a:xfrm>
            <a:off x="3948120" y="6095880"/>
            <a:ext cx="1004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Line 10"/>
          <p:cNvSpPr/>
          <p:nvPr/>
        </p:nvSpPr>
        <p:spPr>
          <a:xfrm>
            <a:off x="4191120" y="920880"/>
            <a:ext cx="0" cy="14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Line 11"/>
          <p:cNvSpPr/>
          <p:nvPr/>
        </p:nvSpPr>
        <p:spPr>
          <a:xfrm>
            <a:off x="4191120" y="844560"/>
            <a:ext cx="0" cy="45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3"/>
          <p:cNvSpPr/>
          <p:nvPr/>
        </p:nvSpPr>
        <p:spPr>
          <a:xfrm>
            <a:off x="1705680" y="1631880"/>
            <a:ext cx="10071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act Finding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- Identifying consumption patter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- Tracking tre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CA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CA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CA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CA" sz="2800" spc="-1" strike="noStrike">
                <a:solidFill>
                  <a:srgbClr val="ffffff"/>
                </a:solidFill>
                <a:latin typeface="Century Gothic"/>
              </a:rPr>
              <a:t>- Environmental Sca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1798200" y="3035160"/>
            <a:ext cx="97786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Model building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- Estimating market pot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- Forecasting s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- Analysis of trade areas and s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CA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CA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CA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CA" sz="2800" spc="-1" strike="noStrike">
                <a:solidFill>
                  <a:srgbClr val="ffffff"/>
                </a:solidFill>
                <a:latin typeface="Century Gothic"/>
              </a:rPr>
              <a:t>- Advertising Response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1644840" y="4853160"/>
            <a:ext cx="9777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Data  Mining/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-  Development of Prospect 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DataBase Marketing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-  Enhancement of Customer 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6939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OMMON RESEARCH OBJECTIV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R SECONDARY DATA STUDI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FACT FIND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174400" y="915840"/>
            <a:ext cx="7426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8370f"/>
                </a:solidFill>
                <a:latin typeface="Century Gothic"/>
              </a:rPr>
              <a:t>Identify consumer behavior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8370f"/>
                </a:solidFill>
                <a:latin typeface="Century Gothic"/>
              </a:rPr>
              <a:t>Trend analysis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8370f"/>
                </a:solidFill>
                <a:latin typeface="Century Gothic"/>
              </a:rPr>
              <a:t>Environmental scanning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"/>
          <p:cNvPicPr/>
          <p:nvPr/>
        </p:nvPicPr>
        <p:blipFill>
          <a:blip r:embed="rId1"/>
          <a:srcRect l="68109" t="35812" r="1892" b="13905"/>
          <a:stretch/>
        </p:blipFill>
        <p:spPr>
          <a:xfrm>
            <a:off x="1676520" y="1295280"/>
            <a:ext cx="8458200" cy="502920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5"/>
          <p:cNvSpPr/>
          <p:nvPr/>
        </p:nvSpPr>
        <p:spPr>
          <a:xfrm>
            <a:off x="1371240" y="558720"/>
            <a:ext cx="546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dentify consumer behav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7640640" cy="434340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2127600" y="762120"/>
            <a:ext cx="32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rend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NVIRONMENTAL SCANNIN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8" name="Picture 4" descr=""/>
          <p:cNvPicPr/>
          <p:nvPr/>
        </p:nvPicPr>
        <p:blipFill>
          <a:blip r:embed="rId1"/>
          <a:stretch/>
        </p:blipFill>
        <p:spPr>
          <a:xfrm>
            <a:off x="2171880" y="1576440"/>
            <a:ext cx="76960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828800" y="558720"/>
            <a:ext cx="65548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MODEL BUILD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828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8370f"/>
                </a:solidFill>
                <a:latin typeface="Century Gothic"/>
              </a:rPr>
              <a:t>Market potential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8370f"/>
                </a:solidFill>
                <a:latin typeface="Century Gothic"/>
              </a:rPr>
              <a:t>Forecasting sales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8370f"/>
                </a:solidFill>
                <a:latin typeface="Century Gothic"/>
              </a:rPr>
              <a:t>Analysis of trade areas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</p:txBody>
      </p:sp>
      <p:pic>
        <p:nvPicPr>
          <p:cNvPr id="381" name="Object 4" descr=""/>
          <p:cNvPicPr/>
          <p:nvPr/>
        </p:nvPicPr>
        <p:blipFill>
          <a:blip r:embed="rId1"/>
          <a:stretch/>
        </p:blipFill>
        <p:spPr>
          <a:xfrm>
            <a:off x="6321600" y="1981080"/>
            <a:ext cx="35622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4"/>
          <p:cNvSpPr/>
          <p:nvPr/>
        </p:nvSpPr>
        <p:spPr>
          <a:xfrm>
            <a:off x="2133720" y="41580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Estimating Market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For Hybrid Vehicle Sales in 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3" name="Picture 5" descr=""/>
          <p:cNvPicPr/>
          <p:nvPr/>
        </p:nvPicPr>
        <p:blipFill>
          <a:blip r:embed="rId1"/>
          <a:srcRect l="68109" t="35524" r="1080" b="26381"/>
          <a:stretch/>
        </p:blipFill>
        <p:spPr>
          <a:xfrm>
            <a:off x="2209680" y="1246320"/>
            <a:ext cx="5867640" cy="25732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"/>
          <p:cNvPicPr/>
          <p:nvPr/>
        </p:nvPicPr>
        <p:blipFill>
          <a:blip r:embed="rId2"/>
          <a:stretch/>
        </p:blipFill>
        <p:spPr>
          <a:xfrm>
            <a:off x="2286000" y="4343400"/>
            <a:ext cx="3819600" cy="2170080"/>
          </a:xfrm>
          <a:prstGeom prst="rect">
            <a:avLst/>
          </a:prstGeom>
          <a:ln w="0">
            <a:noFill/>
          </a:ln>
        </p:spPr>
      </p:pic>
      <p:sp>
        <p:nvSpPr>
          <p:cNvPr id="385" name="TextBox 7"/>
          <p:cNvSpPr/>
          <p:nvPr/>
        </p:nvSpPr>
        <p:spPr>
          <a:xfrm>
            <a:off x="6324480" y="434340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If 2.5% of carsales are hybrids, and if NL  care sales in 2013 was 35,439 units – then we estimate that we estimate around 900 hybrids were sold in NL in 201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3"/>
          <p:cNvSpPr/>
          <p:nvPr/>
        </p:nvSpPr>
        <p:spPr>
          <a:xfrm>
            <a:off x="2362320" y="1714680"/>
            <a:ext cx="584820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20" rIns="69120" tIns="34560" bIns="34560" anchor="ctr">
            <a:normAutofit fontScale="97000"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Unit 4: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6000" spc="-1" strike="noStrike">
                <a:solidFill>
                  <a:srgbClr val="ffffff"/>
                </a:solidFill>
                <a:latin typeface="Century Gothic"/>
              </a:rPr>
              <a:t>Secondary Research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4"/>
          <p:cNvSpPr/>
          <p:nvPr/>
        </p:nvSpPr>
        <p:spPr>
          <a:xfrm>
            <a:off x="2209680" y="6858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Forecasting 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Vehicle Sales in 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2286000" y="4343400"/>
            <a:ext cx="8001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8" name="Picture 1" descr=""/>
          <p:cNvPicPr/>
          <p:nvPr/>
        </p:nvPicPr>
        <p:blipFill>
          <a:blip r:embed="rId1"/>
          <a:srcRect l="1622" t="26381" r="79459" b="36287"/>
          <a:stretch/>
        </p:blipFill>
        <p:spPr>
          <a:xfrm>
            <a:off x="2514600" y="1530360"/>
            <a:ext cx="6908760" cy="4835520"/>
          </a:xfrm>
          <a:prstGeom prst="rect">
            <a:avLst/>
          </a:prstGeom>
          <a:ln w="0">
            <a:noFill/>
          </a:ln>
        </p:spPr>
      </p:pic>
      <p:pic>
        <p:nvPicPr>
          <p:cNvPr id="389" name="Straight Connector 3" descr=""/>
          <p:cNvPicPr/>
          <p:nvPr/>
        </p:nvPicPr>
        <p:blipFill>
          <a:blip r:embed="rId2"/>
          <a:stretch/>
        </p:blipFill>
        <p:spPr>
          <a:xfrm>
            <a:off x="7723080" y="3492360"/>
            <a:ext cx="1024200" cy="1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4"/>
          <p:cNvSpPr/>
          <p:nvPr/>
        </p:nvSpPr>
        <p:spPr>
          <a:xfrm>
            <a:off x="2209680" y="6858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Analysis of Trade 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Vehicle Sales in 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Box 7"/>
          <p:cNvSpPr/>
          <p:nvPr/>
        </p:nvSpPr>
        <p:spPr>
          <a:xfrm>
            <a:off x="2286000" y="4343400"/>
            <a:ext cx="8001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rcRect l="60540" t="44667" r="17567" b="24859"/>
          <a:stretch/>
        </p:blipFill>
        <p:spPr>
          <a:xfrm>
            <a:off x="6934320" y="138240"/>
            <a:ext cx="3352680" cy="192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3" name=""/>
          <p:cNvGraphicFramePr/>
          <p:nvPr/>
        </p:nvGraphicFramePr>
        <p:xfrm>
          <a:off x="2209680" y="2417760"/>
          <a:ext cx="8077320" cy="3576600"/>
        </p:xfrm>
        <a:graphic>
          <a:graphicData uri="http://schemas.openxmlformats.org/drawingml/2006/table">
            <a:tbl>
              <a:tblPr/>
              <a:tblGrid>
                <a:gridCol w="2019600"/>
                <a:gridCol w="2019240"/>
                <a:gridCol w="403848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op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060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060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060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nual per capita car s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c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c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$1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cc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cal Mkt Potentia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 *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$5,0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7e7"/>
                    </a:solidFill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quare Feet of Car Selling Sp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c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c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cc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dex of retail Satu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P*A)/S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 – low opportunity for grow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7e7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c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c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c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057400" y="53640"/>
            <a:ext cx="6554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DATA MINING/DATA BASED MARKET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076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Computer/Interned analysis of metadata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Practice of maintaining a customer data base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Names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Addresses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Past purchases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Responses to past efforts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Data from numerous sources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INTERNAL DAT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951200" y="95220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Monotype Sorts" charset="2"/>
              <a:buChar char="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8370f"/>
                </a:solidFill>
                <a:latin typeface="Century Gothic"/>
              </a:rPr>
              <a:t>Internal and proprietary data is more descriptive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09680" y="278100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2858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68370f"/>
                </a:solidFill>
                <a:latin typeface="Century Gothic"/>
              </a:rPr>
              <a:t>Accounting information</a:t>
            </a:r>
            <a:endParaRPr b="0" lang="en-US" sz="26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68370f"/>
                </a:solidFill>
                <a:latin typeface="Century Gothic"/>
              </a:rPr>
              <a:t>Sales information</a:t>
            </a:r>
            <a:endParaRPr b="0" lang="en-US" sz="26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68370f"/>
                </a:solidFill>
                <a:latin typeface="Century Gothic"/>
              </a:rPr>
              <a:t>Backorders</a:t>
            </a:r>
            <a:endParaRPr b="0" lang="en-US" sz="26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68370f"/>
                </a:solidFill>
                <a:latin typeface="Century Gothic"/>
              </a:rPr>
              <a:t>Customer complaints</a:t>
            </a:r>
            <a:endParaRPr b="0" lang="en-US" sz="2600" spc="-1" strike="noStrike">
              <a:solidFill>
                <a:srgbClr val="68370f"/>
              </a:solidFill>
              <a:latin typeface="Century Gothic"/>
            </a:endParaRPr>
          </a:p>
        </p:txBody>
      </p:sp>
      <p:graphicFrame>
        <p:nvGraphicFramePr>
          <p:cNvPr id="399" name="Object 5"/>
          <p:cNvGraphicFramePr/>
          <p:nvPr/>
        </p:nvGraphicFramePr>
        <p:xfrm>
          <a:off x="7543800" y="2590920"/>
          <a:ext cx="2184480" cy="38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2590920"/>
                    <a:ext cx="218448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017800" y="29880"/>
            <a:ext cx="6554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EXTERNAL DAT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017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Libraries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The Internet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Vendors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Producers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Books and periodicalsGovernment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Trade associations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Newspapers and journals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03" name="Rectangle 1"/>
          <p:cNvSpPr/>
          <p:nvPr/>
        </p:nvSpPr>
        <p:spPr>
          <a:xfrm>
            <a:off x="2017800" y="947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ted, recorded, or generated by an entity other than the researcher’s orga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54080" y="228240"/>
            <a:ext cx="6554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GLOBAL SECONDARY DAT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95408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Typical limitations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Additional pitfalls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Unavailable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Questionable accuracy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Lack of standardized terminology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graphicFrame>
        <p:nvGraphicFramePr>
          <p:cNvPr id="406" name="Object 4"/>
          <p:cNvGraphicFramePr/>
          <p:nvPr/>
        </p:nvGraphicFramePr>
        <p:xfrm>
          <a:off x="6172200" y="4114800"/>
          <a:ext cx="4216320" cy="200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4114800"/>
                    <a:ext cx="421632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Content Placeholder 2"/>
          <p:cNvSpPr/>
          <p:nvPr/>
        </p:nvSpPr>
        <p:spPr>
          <a:xfrm>
            <a:off x="1219320" y="22320"/>
            <a:ext cx="702936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CA" sz="1500" spc="-1" strike="noStrike">
                <a:solidFill>
                  <a:srgbClr val="ffffff"/>
                </a:solidFill>
                <a:latin typeface="Century Gothic"/>
              </a:rPr>
              <a:t>In this video we will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3152160" y="812880"/>
            <a:ext cx="597960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840" rIns="51840" tIns="25920" bIns="25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tages of the Research Proces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2971800" y="1720800"/>
            <a:ext cx="2749680" cy="1211400"/>
          </a:xfrm>
          <a:prstGeom prst="rect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3616200" y="2141640"/>
            <a:ext cx="15177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840" rIns="5184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1.Problem Discovery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and Definitio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Century Gothic"/>
              </a:rPr>
              <a:t>Exploratory Re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Century Gothic"/>
              </a:rPr>
              <a:t>Secondary Data Re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Line 5"/>
          <p:cNvSpPr/>
          <p:nvPr/>
        </p:nvSpPr>
        <p:spPr>
          <a:xfrm flipH="1">
            <a:off x="5278320" y="3075120"/>
            <a:ext cx="128880" cy="261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3181320" y="3174840"/>
            <a:ext cx="2054160" cy="655920"/>
          </a:xfrm>
          <a:prstGeom prst="rect">
            <a:avLst/>
          </a:prstGeom>
          <a:solidFill>
            <a:srgbClr val="ff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3675240" y="3311640"/>
            <a:ext cx="1039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840" rIns="5184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2. Research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Desig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4917960" y="4202280"/>
            <a:ext cx="41400" cy="341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3181320" y="4157640"/>
            <a:ext cx="2089080" cy="609480"/>
          </a:xfrm>
          <a:prstGeom prst="rect">
            <a:avLst/>
          </a:prstGeom>
          <a:solidFill>
            <a:srgbClr val="ff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3713040" y="4324320"/>
            <a:ext cx="10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840" rIns="5184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3. Sampling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12"/>
          <p:cNvSpPr/>
          <p:nvPr/>
        </p:nvSpPr>
        <p:spPr>
          <a:xfrm>
            <a:off x="5433840" y="4543560"/>
            <a:ext cx="1822680" cy="628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3"/>
          <p:cNvSpPr/>
          <p:nvPr/>
        </p:nvSpPr>
        <p:spPr>
          <a:xfrm>
            <a:off x="5721480" y="4651200"/>
            <a:ext cx="10396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840" rIns="5184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06f1e"/>
                </a:solidFill>
                <a:latin typeface="Century Gothic"/>
              </a:rPr>
              <a:t>4. Dat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06f1e"/>
                </a:solidFill>
                <a:latin typeface="Century Gothic"/>
              </a:rPr>
              <a:t>Gathering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14"/>
          <p:cNvSpPr/>
          <p:nvPr/>
        </p:nvSpPr>
        <p:spPr>
          <a:xfrm flipV="1">
            <a:off x="7418520" y="4235400"/>
            <a:ext cx="257040" cy="341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15"/>
          <p:cNvSpPr/>
          <p:nvPr/>
        </p:nvSpPr>
        <p:spPr>
          <a:xfrm>
            <a:off x="6996240" y="3489480"/>
            <a:ext cx="1842840" cy="583920"/>
          </a:xfrm>
          <a:prstGeom prst="rect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16"/>
          <p:cNvSpPr/>
          <p:nvPr/>
        </p:nvSpPr>
        <p:spPr>
          <a:xfrm>
            <a:off x="7426440" y="3619440"/>
            <a:ext cx="10396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840" rIns="5184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5. Data Processing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and Analysi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18"/>
          <p:cNvSpPr/>
          <p:nvPr/>
        </p:nvSpPr>
        <p:spPr>
          <a:xfrm>
            <a:off x="6891480" y="2371680"/>
            <a:ext cx="2052360" cy="62244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19"/>
          <p:cNvSpPr/>
          <p:nvPr/>
        </p:nvSpPr>
        <p:spPr>
          <a:xfrm>
            <a:off x="6746760" y="2427120"/>
            <a:ext cx="234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840" rIns="5184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6. Conclusions an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Reporting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Line 20"/>
          <p:cNvSpPr/>
          <p:nvPr/>
        </p:nvSpPr>
        <p:spPr>
          <a:xfrm flipH="1" flipV="1">
            <a:off x="7426440" y="3036600"/>
            <a:ext cx="172800" cy="299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Rectangle 24"/>
          <p:cNvSpPr/>
          <p:nvPr/>
        </p:nvSpPr>
        <p:spPr>
          <a:xfrm>
            <a:off x="5952240" y="2001960"/>
            <a:ext cx="10202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840" rIns="51840" tIns="25920" bIns="25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and so o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14"/>
          <p:cNvSpPr/>
          <p:nvPr/>
        </p:nvSpPr>
        <p:spPr>
          <a:xfrm>
            <a:off x="4959360" y="4811760"/>
            <a:ext cx="447840" cy="249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Line 5"/>
          <p:cNvSpPr/>
          <p:nvPr/>
        </p:nvSpPr>
        <p:spPr>
          <a:xfrm>
            <a:off x="4467240" y="3897360"/>
            <a:ext cx="144360" cy="245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Line 20"/>
          <p:cNvSpPr/>
          <p:nvPr/>
        </p:nvSpPr>
        <p:spPr>
          <a:xfrm flipH="1">
            <a:off x="5927760" y="2386080"/>
            <a:ext cx="1068480" cy="3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67831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SECONDARY DAT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Rectangle 1"/>
          <p:cNvSpPr/>
          <p:nvPr/>
        </p:nvSpPr>
        <p:spPr>
          <a:xfrm>
            <a:off x="1905120" y="144792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ary data is data that has been gathered and recorded by someone else prior to and for a purpose other than the current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s oft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istor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lready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Needs no access to su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081160" y="533160"/>
            <a:ext cx="65548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DVANTAGES OF SECONDARY DAT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046240" y="1302840"/>
            <a:ext cx="7824960" cy="376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68370f"/>
                </a:solidFill>
                <a:latin typeface="Century Gothic"/>
              </a:rPr>
              <a:t>Available (Google)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8370f"/>
                </a:solidFill>
                <a:latin typeface="Century Gothic"/>
              </a:rPr>
              <a:t>Inexpensive 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8370f"/>
                </a:solidFill>
                <a:latin typeface="Century Gothic"/>
              </a:rPr>
              <a:t>Obtained Rapidly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8370f"/>
                </a:solidFill>
                <a:latin typeface="Century Gothic"/>
              </a:rPr>
              <a:t>Information is not Otherwise Accessible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4457880" y="6068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06f1e"/>
                </a:solidFill>
                <a:latin typeface="Times New Roman"/>
              </a:rPr>
              <a:t>http://www.statcan.gc.ca/dai-quo/index-eng.ht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65548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GOVERNMENT DATA IS OFTEN FRE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Rectangle 1"/>
          <p:cNvSpPr/>
          <p:nvPr/>
        </p:nvSpPr>
        <p:spPr>
          <a:xfrm>
            <a:off x="1836720" y="160020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stics Canada Labour Force Survey, June 20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rcRect l="68380" t="39336" r="11893" b="25622"/>
          <a:stretch/>
        </p:blipFill>
        <p:spPr>
          <a:xfrm>
            <a:off x="1828800" y="2146320"/>
            <a:ext cx="8686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058840" y="533160"/>
            <a:ext cx="65548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DISADVANTAGES OF SECONDARY DAT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2058840" y="2362320"/>
            <a:ext cx="938376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262800" indent="-2628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8370f"/>
                </a:solidFill>
                <a:latin typeface="Century Gothic"/>
              </a:rPr>
              <a:t>Not tailored to a particular research question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  <a:p>
            <a:pPr marL="262800" indent="-2628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8370f"/>
                </a:solidFill>
                <a:latin typeface="Century Gothic"/>
              </a:rPr>
              <a:t>Uncertain Accuracy (Reputable source?)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  <a:p>
            <a:pPr marL="262800" indent="-2628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68370f"/>
                </a:solidFill>
                <a:latin typeface="Century Gothic"/>
              </a:rPr>
              <a:t>Reliability may be questionable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  <a:p>
            <a:pPr marL="262800" indent="-2628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68370f"/>
                </a:solidFill>
                <a:latin typeface="Century Gothic"/>
              </a:rPr>
              <a:t>May not be valid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  <a:p>
            <a:pPr marL="262800" indent="-2628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68370f"/>
                </a:solidFill>
                <a:latin typeface="Century Gothic"/>
              </a:rPr>
              <a:t>Consider its age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  <a:p>
            <a:pPr marL="262800" indent="-2628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8370f"/>
                </a:solidFill>
                <a:latin typeface="Century Gothic"/>
              </a:rPr>
              <a:t>Data Not Consistent with Needs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  <a:p>
            <a:pPr marL="262800" indent="-2628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8370f"/>
                </a:solidFill>
                <a:latin typeface="Century Gothic"/>
              </a:rPr>
              <a:t>Inappropriate Units of Measurement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entury Gothic"/>
              </a:rPr>
              <a:t>SECONDARY DATA MAY BE DATED</a:t>
            </a:r>
            <a:endParaRPr b="0" lang="en-US" sz="4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2924280" y="198756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8370f"/>
                </a:solidFill>
                <a:latin typeface="Century Gothic"/>
              </a:rPr>
              <a:t>Statistics Canada Canadian Census the Canadian Census every 5 years, from the national to the local level.</a:t>
            </a:r>
            <a:endParaRPr b="0" lang="en-US" sz="3200" spc="-1" strike="noStrike">
              <a:solidFill>
                <a:srgbClr val="68370f"/>
              </a:solidFill>
              <a:latin typeface="Century Gothic"/>
            </a:endParaRPr>
          </a:p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331" name="Rectangle 1"/>
          <p:cNvSpPr/>
          <p:nvPr/>
        </p:nvSpPr>
        <p:spPr>
          <a:xfrm>
            <a:off x="5194440" y="4952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12.statcan.gc.ca/census-recensement/2011/dp-pd/index-eng.cf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4T09:38:13Z</dcterms:created>
  <dc:creator>Tobin Zkmund</dc:creator>
  <dc:description/>
  <dc:language>en-US</dc:language>
  <cp:lastModifiedBy>Tilley, Paul (C'ville)</cp:lastModifiedBy>
  <cp:lastPrinted>2014-10-01T13:28:24Z</cp:lastPrinted>
  <dcterms:modified xsi:type="dcterms:W3CDTF">2014-10-01T13:30:31Z</dcterms:modified>
  <cp:revision>22</cp:revision>
  <dc:subject/>
  <dc:title>Chapter 7 -  Exploring Marketing Research</dc:title>
</cp:coreProperties>
</file>